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CB3-D1AF-4603-831B-FEDBBF82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BFC-EBF4-4CB1-A01A-49EEA149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657-0A99-4D44-A420-2D888AAA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E6E-39FF-4BD6-AE7C-1AE649A2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D8D2-471D-42DD-8849-D61EC2DF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345C-0FFB-47F4-8CD0-AEB1C78F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3808-E1AC-4C31-ADAE-97617976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8097-FF6F-4913-9C0C-13A51BDA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715B-2C3F-48C8-A84D-951D2548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011D-3587-4F21-87A1-7FBF4FEA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C31D-E72B-4094-9DEF-D7260161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163-DBEF-48D6-9404-FDD23B8D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55C1-E89C-4C30-BFA2-E67215BC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34D4-7849-4996-9A89-8DE3B475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6368-AD01-47E4-95C2-AD09E028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FB21-D8F3-47C3-AEAC-67A4C324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F2B1-7A16-4FE2-BD1C-485A1420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E72-6116-494D-BBE4-E573DB6B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659-31C1-4E48-82A2-D852600F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8A7-0003-4160-97B8-4D74C4BB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518-D884-4948-8080-A1155D64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E43-F88F-4566-968B-6B67C9AE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5E0-9890-42E1-9197-F607890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230-84B3-48C3-84EB-B5AC2BA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39CE-7531-4E27-AA67-7BC20ADEB1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1249-2EBD-4FE9-BEAB-06083E00C1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Comparison Between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b-threshold and Adiabatic Power Saving Techniqu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Jonathan Bolus an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uart Wooter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iabatic Adder 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1080" y="2499840"/>
            <a:ext cx="66373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Consumption: 300 fJ/ad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= 20 M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Consumption: 6 u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of Devices: 1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iabatic is not as affective at small values of V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D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lower than 2V).  This is evident in the 90nm technology we u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-threshold saved 26x the power compared to V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D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 0.5V, 400MHz, V/sub 00/-hopping processor with zero-V/sub TH/ FD-SOI technolog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AR" sz="1400" spc="-1" strike="noStrike">
                <a:solidFill>
                  <a:srgbClr val="003366"/>
                </a:solidFill>
                <a:latin typeface="Arial"/>
              </a:rPr>
              <a:t>Kawaguchi, H.; Kanda, K.; Nose, K.; Hattori, S.; Dwi, D.; Antono, D.; Yamada, D.; Miyazaki, T.; Inagaki, K.; Hiramoto, T.; Sakurai, T.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olid-State Circuits Conference, 2003. Digest of Technical Papers. ISSCC. 2003 IEEE Internation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3 Page(s):106 - 481 vol.1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igital Object Identifier 10.1109/ISSCC.2003.1234227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 Efficient Charge Recovery Logic Circui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Yong Moon, and Deog-Kyoon Jeong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E Journal of Solid-State Circuits, Vol, 31, No.4, April 199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ry Look Ahead Ad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92280" y="2362320"/>
            <a:ext cx="4384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 Comparison of different V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Arial"/>
              </a:rPr>
              <a:t>D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431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wer Consumption Comparison with VDD=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7120" y="2362320"/>
            <a:ext cx="5773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b-threshold 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Consumption: 7.18 fJ/ad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= 20 M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Consumption: 143.6 n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of Devices: 12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440" y="791640"/>
            <a:ext cx="7483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R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4305600" cy="403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1680" y="1066680"/>
            <a:ext cx="42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fficient Charge Recovery Log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2860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ssentially Differential Cascode Voltage Switch Logic (DCVSL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DD replaced by power clock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4120" y="4648320"/>
            <a:ext cx="28191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440" y="944280"/>
            <a:ext cx="7483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ck Tim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1660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RL Inver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 Consump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9250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2:19:14Z</dcterms:created>
  <dc:creator>Stuart Wooters</dc:creator>
  <dc:description/>
  <dc:language>en-US</dc:language>
  <cp:lastModifiedBy>Stuart Wooters</cp:lastModifiedBy>
  <dcterms:modified xsi:type="dcterms:W3CDTF">2006-11-30T18:11:09Z</dcterms:modified>
  <cp:revision>5</cp:revision>
  <dc:subject/>
  <dc:title>Slide 1</dc:title>
</cp:coreProperties>
</file>